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F8D7-0ECC-46E3-8BF8-EE448F264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6C89-914B-4167-8684-6A4307B94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9A4-C762-42B4-BA7D-DB8E262E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B824-0A5B-4114-8813-1458776A1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F8A-638A-447A-8F15-ED238487E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290-150C-49C8-B8F5-02FC833DB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F104-D3C6-4C07-AEBA-C934BC7FC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EF2-B509-4C3F-91B8-EE4EB9C01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5F9B-0F3D-4157-BEFE-F49F76C91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84E-768E-444F-A1B9-7A42A2600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ED9-F931-4146-8279-A56A83F0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545-35C9-443F-B0E5-DC2B4C66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E79-E7E8-477D-A43D-308A624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AE9-9FF6-41F5-9591-BCD53F30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94A-CA35-4803-A800-FC39BDEA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C33-816D-4C8C-B5A2-9640A74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BAB-B74D-47FE-BA9F-60A62ED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593-1F61-49DA-BAB4-1F17B02D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AFE-1322-4E36-B7EA-13A6472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ACE-EFB8-4FB6-9CB7-DEB207B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CB3-0B08-41DA-8591-30EFF4D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07D-C057-43C7-80ED-A849BD6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FE6-208E-4AD0-8416-23D84D1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5C0-85EE-41A3-A5A7-E8C95EA9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24-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ry Clay and John Calhoun worked out a comprom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th Carolina would agree to pay the tax if Congress agreed to gradually reduc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inians were glad to conquer an unfair tax, while the federal government was able to establish its supremacy over th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Compromise.jpg"/>
          <p:cNvPicPr/>
          <p:nvPr/>
        </p:nvPicPr>
        <p:blipFill>
          <a:blip r:embed="rId1"/>
          <a:stretch/>
        </p:blipFill>
        <p:spPr>
          <a:xfrm>
            <a:off x="4267080" y="1828800"/>
            <a:ext cx="4496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acksonian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xpanded Suff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ower of the Elected Offic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poils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howdown with the Supreme Cou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upremacy of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trict Constitutional Interpret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dian Rem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attle with the B.U.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Jackson: The My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Jackson Commoner.jpg"/>
          <p:cNvPicPr/>
          <p:nvPr/>
        </p:nvPicPr>
        <p:blipFill>
          <a:blip r:embed="rId1"/>
          <a:stretch/>
        </p:blipFill>
        <p:spPr>
          <a:xfrm>
            <a:off x="1057320" y="1600200"/>
            <a:ext cx="283824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rew Jackson came to prominence as a feared gene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d numerous vicious attacks on Native Americ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n the decisive Battle of New Orleans in The War of 18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in backwoods of Kentucky – self-m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ed as a man of the peop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“Corrupt Bargai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idential Election of 18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 candidates split national v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deral Law required the president to receive a majority of the votes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not, the decision would go to a vote in the House of Representatives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10080" y="1523880"/>
          <a:ext cx="3505320" cy="1482840"/>
        </p:xfrm>
        <a:graphic>
          <a:graphicData uri="http://schemas.openxmlformats.org/drawingml/2006/table">
            <a:tbl>
              <a:tblPr/>
              <a:tblGrid>
                <a:gridCol w="2745000"/>
                <a:gridCol w="760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drew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Quincy Ad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ry C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iam Harris Craw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5562720" y="3352680"/>
            <a:ext cx="32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keep Jackson  away from the presidency, Clay offered all of his votes to J.Q.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raged that the will of the people could be ignored in such a way, Jackson dubbed the event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“the corrupt barga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niversal White Male 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 reform that began in the 1820’s and was complete by Jackson’s inauguration in 18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Rights” were no longer required to vote – but only for white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, this was considered a democratic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ion of 1828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Jackson W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Jackson's Inaguration.jpg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ackson in 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0" y="13716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oils System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elected officials should assign their own people to appointed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benefit of winning an 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“to the victor go the spoil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Spoils.jpg"/>
          <p:cNvPicPr/>
          <p:nvPr/>
        </p:nvPicPr>
        <p:blipFill>
          <a:blip r:embed="rId1"/>
          <a:stretch/>
        </p:blipFill>
        <p:spPr>
          <a:xfrm>
            <a:off x="457200" y="1371600"/>
            <a:ext cx="3840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passed protectiv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ariffs in 1828 and 18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Carolina felt it unfairly burdened their agrarian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convention in 1832, they declared they would not enforce the federal tar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ked the doctrine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“nullifica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tates should not have to agree to laws if they consider it unconstitu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. Jackson was livid at the insubord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ress responded by passing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orce Ac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ve Jackson the authority to send federal troops to enforce the collection of a national 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5" descr="Nullification.jpg"/>
          <p:cNvPicPr/>
          <p:nvPr/>
        </p:nvPicPr>
        <p:blipFill>
          <a:blip r:embed="rId1"/>
          <a:stretch/>
        </p:blipFill>
        <p:spPr>
          <a:xfrm>
            <a:off x="4762440" y="1981080"/>
            <a:ext cx="381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2:37:40Z</dcterms:created>
  <dc:creator>Mike</dc:creator>
  <dc:description/>
  <dc:language>en-US</dc:language>
  <cp:lastModifiedBy>roxana</cp:lastModifiedBy>
  <dcterms:modified xsi:type="dcterms:W3CDTF">2009-08-10T22:53:25Z</dcterms:modified>
  <cp:revision>13</cp:revision>
  <dc:subject/>
  <dc:title>Jacksonian Democracy</dc:title>
</cp:coreProperties>
</file>