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7F46-BA3F-4D15-9294-34990C59F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84C5-C629-4B64-9B89-D4EC5D9C2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A917-5D4C-4E87-BF84-A8B2E0A86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3EDA-4832-4EB1-A1AC-5675D49D8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55E2-DD2A-4E8F-9B7A-553A5B3C9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760-E574-43A4-937E-425476FBA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3872-54E4-4D44-B0A8-6CDFC7809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97D9-A242-4477-90F4-F2327B5BF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DD58-82E0-4091-B588-E0CAA4B3A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8BE6-673B-49DE-BBA1-6C469C9E6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3F46-97E6-4CB8-9F67-4CC80F47C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B7C-E1B9-427D-BBCC-26C9657E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82E-4963-4A2E-9A9E-152AAC46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46C-67D4-4F35-AFC8-CDEDCE7E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F70-82FC-4F03-AA9B-9FB5E1C9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428-F8F4-4D2E-8594-DC3019BF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EC1-23BE-4180-949D-FD8C3C45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001-2644-483C-B5A9-09AC5C86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D11-2415-4DFF-988F-635ABEA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980-A8F6-4F96-8165-C71CC551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B8B-C69D-4C4C-98D7-4C4B2087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05D-52E5-42E0-AC86-7250882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FB6-6802-447C-9759-4AB0F5A5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4067-DE22-4DF2-9114-1C6C32A64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Jacksonian 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24-18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ullificatio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nry Clay and John Calhoun worked out a compromi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uth Carolina would agree to pay the tax if Congress agreed to gradually reduce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inians were glad to conquer an unfair tax, while the federal government was able to establish its supremacy over th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Compromise.jpg"/>
          <p:cNvPicPr/>
          <p:nvPr/>
        </p:nvPicPr>
        <p:blipFill>
          <a:blip r:embed="rId1"/>
          <a:stretch/>
        </p:blipFill>
        <p:spPr>
          <a:xfrm>
            <a:off x="4267080" y="1828800"/>
            <a:ext cx="4496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Jacksonian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xpanded Suff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ower of the Elected Offic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Spoils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Showdown with the Supreme Cou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upremacy of Federal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Nullification Cri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trict Constitutional Interpret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dian Rem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Battle with the B.U.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Jackson: The My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Jackson Commoner.jpg"/>
          <p:cNvPicPr/>
          <p:nvPr/>
        </p:nvPicPr>
        <p:blipFill>
          <a:blip r:embed="rId1"/>
          <a:stretch/>
        </p:blipFill>
        <p:spPr>
          <a:xfrm>
            <a:off x="1057320" y="1600200"/>
            <a:ext cx="283824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rew Jackson came to prominence as a feared gener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d numerous vicious attacks on Native Americ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n the decisive Battle of New Orleans in The War of 1812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rn in backwoods of Kentucky – self-ma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ewed as a man of the peop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 “Corrupt Bargain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idential Election of 18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 candidates split national vo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deral Law required the president to receive a majority of the votes (&gt;5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not, the decision would go to a vote in the House of Representatives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410080" y="1523880"/>
          <a:ext cx="3505320" cy="1482840"/>
        </p:xfrm>
        <a:graphic>
          <a:graphicData uri="http://schemas.openxmlformats.org/drawingml/2006/table">
            <a:tbl>
              <a:tblPr/>
              <a:tblGrid>
                <a:gridCol w="2745000"/>
                <a:gridCol w="760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drew Jack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Quincy Ad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ry C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iam Harris Crawf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5562720" y="3352680"/>
            <a:ext cx="32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keep Jackson  away from the presidency, Clay offered all of his votes to J.Q. A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raged that the will of the people could be ignored in such a way, Jackson dubbed the event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“the corrupt barga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niversal White Male Suff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jor reform that began in the 1820’s and was complete by Jackson’s inauguration in 18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y Rights” were no longer required to vote – but only for white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, this was considered a democratic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in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ion of 1828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Jackson W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Jackson's Inaguration.jpg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Jackson in Off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0" y="137160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oils System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elected officials should assign their own people to appointed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benefit of winning an 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“to the victor go the spoil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Spoils.jpg"/>
          <p:cNvPicPr/>
          <p:nvPr/>
        </p:nvPicPr>
        <p:blipFill>
          <a:blip r:embed="rId1"/>
          <a:stretch/>
        </p:blipFill>
        <p:spPr>
          <a:xfrm>
            <a:off x="457200" y="1371600"/>
            <a:ext cx="38401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ullificatio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ress passed protectiv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Tariffs in 1828 and 18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th Carolina felt it unfairly burdened their agrarian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a convention in 1832, they declared they would not enforce the federal tari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ked the doctrine of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“nullificatio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tates should not have to agree to laws if they consider it unconstitu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ullificatio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. Jackson was livid at the insubord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ress responded by passing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Force Ac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ve Jackson the authority to send federal troops to enforce the collection of a national 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5" descr="Nullification.jpg"/>
          <p:cNvPicPr/>
          <p:nvPr/>
        </p:nvPicPr>
        <p:blipFill>
          <a:blip r:embed="rId1"/>
          <a:stretch/>
        </p:blipFill>
        <p:spPr>
          <a:xfrm>
            <a:off x="4762440" y="1981080"/>
            <a:ext cx="381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2:37:40Z</dcterms:created>
  <dc:creator>Mike</dc:creator>
  <dc:description/>
  <dc:language>en-US</dc:language>
  <cp:lastModifiedBy>roxana</cp:lastModifiedBy>
  <dcterms:modified xsi:type="dcterms:W3CDTF">2009-08-10T22:53:25Z</dcterms:modified>
  <cp:revision>13</cp:revision>
  <dc:subject/>
  <dc:title>Jacksonian Democracy</dc:title>
</cp:coreProperties>
</file>