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088C-22FD-428E-8989-F42FC7D41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305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3887-961F-46A6-B66E-73CE6D451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348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178B-0593-4466-9241-1DD42F6D8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5920" y="394848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4280" y="394848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1C38-92E6-4F9E-B1CB-55193E343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6370-7055-4E71-A68A-46ED9474D8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5F1-424B-48E0-8B4B-A63C948C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9BA-3179-4748-A95B-B492FED0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687-5746-472D-B269-E8A3414D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935-6BC2-4673-B921-C8F685BE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531720"/>
            <a:ext cx="76960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CB3-7A87-4239-81D5-1ACBEEF9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9047-455F-46D6-97EE-BA980CE0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1F13-BF45-498A-90AF-4F2ACD9C2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348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BF1-F20D-4C62-80D6-291E1DA6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305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7CCC-C2CF-4DAB-A31E-38B1F52D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305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96CE-F87F-4C9E-83CA-A862B36F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1348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F99-FBB7-48B5-B029-22D13CE6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5920" y="394848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4280" y="394848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B6AC-D8EB-49D7-A654-AF3A6327AB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9E94-7917-4756-A480-E85E220326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1E4B-8F81-4724-8FB1-D74103B31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79BD-D0FA-45F5-9941-0C1872D78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1720"/>
            <a:ext cx="76960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98EB-6DFC-41A7-BBF7-29EDFAE3B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5291-2603-44BD-969C-5E9DED234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348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895CE-F8FC-4ACE-9CB7-1B5CB4DD4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305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7A9B-6867-4D8C-89FB-9776BAC97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spcBef>
                <a:spcPts val="799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2440" indent="-228600">
              <a:spcBef>
                <a:spcPts val="799"/>
              </a:spcBef>
              <a:buClr>
                <a:srgbClr val="3333c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C735-F0A4-4A67-9C9D-8D74EA130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" name=""/>
          <p:cNvGraphicFramePr/>
          <p:nvPr/>
        </p:nvGraphicFramePr>
        <p:xfrm>
          <a:off x="6400800" y="152280"/>
          <a:ext cx="251460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52280"/>
                    <a:ext cx="25146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1881360" y="0"/>
            <a:ext cx="5798880" cy="62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7642080" y="0"/>
            <a:ext cx="1508400" cy="619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1506600"/>
            <a:ext cx="9144000" cy="554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3333cc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6480" y="0"/>
            <a:ext cx="91569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7920" y="2633760"/>
            <a:ext cx="9151920" cy="42242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65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6360"/>
            <a:ext cx="19051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553080" y="6246360"/>
            <a:ext cx="19051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BA79-2908-4557-9D35-708662E60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390840" y="239760"/>
            <a:ext cx="2362320" cy="9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09440" algn="ctr"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3333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3659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gital Comm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87A-5969-44D4-8BB3-C51247F70220}" type="slidenum">
              <a:t>1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y – Stevens 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1,000 full-text downloads in two months (pre-laun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-350 FT downloads p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% of external referrals coming from Goo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% of referrals from outsid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% of objects have been down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object represents 2.5% of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719600" y="1600200"/>
          <a:ext cx="412452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9600" y="1600200"/>
                    <a:ext cx="4124520" cy="21718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057640" y="1890720"/>
            <a:ext cx="2004840" cy="820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T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743360" y="3962520"/>
          <a:ext cx="3200400" cy="2689200"/>
        </p:xfrm>
        <a:graphic>
          <a:graphicData uri="http://schemas.openxmlformats.org/drawingml/2006/table">
            <a:tbl>
              <a:tblPr/>
              <a:tblGrid>
                <a:gridCol w="2102040"/>
                <a:gridCol w="1098360"/>
              </a:tblGrid>
              <a:tr h="244440">
                <a:tc>
                  <a:txBody>
                    <a:bodyPr lIns="45720" rIns="90000" tIns="0" bIns="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45720" rIns="90000" tIns="0" bIns="0" anchor="b">
                      <a:noAutofit/>
                    </a:bodyPr>
                    <a:p>
                      <a:pPr marL="457200" indent="-4572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Referr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44440">
                <a:tc>
                  <a:txBody>
                    <a:bodyPr lIns="45720" rIns="90000" tIns="0" bIns="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gle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45720" rIns="90000" tIns="0" bIns="0" anchor="b">
                      <a:noAutofit/>
                    </a:bodyPr>
                    <a:p>
                      <a:pPr marL="457200" indent="-4572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44440">
                <a:tc>
                  <a:txBody>
                    <a:bodyPr lIns="45720" rIns="90000" tIns="0" bIns="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gle Ca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45720" rIns="90000" tIns="0" bIns="0" anchor="b">
                      <a:noAutofit/>
                    </a:bodyPr>
                    <a:p>
                      <a:pPr marL="457200" indent="-4572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44440">
                <a:tc>
                  <a:txBody>
                    <a:bodyPr lIns="45720" rIns="90000" tIns="0" bIns="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gle I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45720" rIns="90000" tIns="0" bIns="0" anchor="b">
                      <a:noAutofit/>
                    </a:bodyPr>
                    <a:p>
                      <a:pPr marL="457200" indent="-4572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44440">
                <a:tc>
                  <a:txBody>
                    <a:bodyPr lIns="45720" rIns="90000" tIns="0" bIns="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gle Germ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45720" rIns="90000" tIns="0" bIns="0" anchor="b">
                      <a:noAutofit/>
                    </a:bodyPr>
                    <a:p>
                      <a:pPr marL="457200" indent="-4572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44440">
                <a:tc>
                  <a:txBody>
                    <a:bodyPr lIns="45720" rIns="90000" tIns="0" bIns="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gle U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45720" rIns="90000" tIns="0" bIns="0" anchor="b">
                      <a:noAutofit/>
                    </a:bodyPr>
                    <a:p>
                      <a:pPr marL="457200" indent="-4572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44440">
                <a:tc>
                  <a:txBody>
                    <a:bodyPr lIns="45720" rIns="90000" tIns="0" bIns="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gle Austr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45720" rIns="90000" tIns="0" bIns="0" anchor="b">
                      <a:noAutofit/>
                    </a:bodyPr>
                    <a:p>
                      <a:pPr marL="457200" indent="-4572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44440">
                <a:tc>
                  <a:txBody>
                    <a:bodyPr lIns="45720" rIns="90000" tIns="0" bIns="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gle 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45720" rIns="90000" tIns="0" bIns="0" anchor="b">
                      <a:noAutofit/>
                    </a:bodyPr>
                    <a:p>
                      <a:pPr marL="457200" indent="-4572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44440">
                <a:tc>
                  <a:txBody>
                    <a:bodyPr lIns="45720" rIns="90000" tIns="0" bIns="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gle Ita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45720" rIns="90000" tIns="0" bIns="0" anchor="b">
                      <a:noAutofit/>
                    </a:bodyPr>
                    <a:p>
                      <a:pPr marL="457200" indent="-4572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44800">
                <a:tc>
                  <a:txBody>
                    <a:bodyPr lIns="45720" rIns="90000" tIns="0" bIns="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gle Thai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45720" rIns="90000" tIns="0" bIns="0" anchor="b">
                      <a:noAutofit/>
                    </a:bodyPr>
                    <a:p>
                      <a:pPr marL="457200" indent="-4572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44440">
                <a:tc>
                  <a:txBody>
                    <a:bodyPr lIns="45720" rIns="90000" tIns="0" bIns="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gle 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45720" rIns="90000" tIns="0" bIns="0" anchor="b">
                      <a:noAutofit/>
                    </a:bodyPr>
                    <a:p>
                      <a:pPr marL="457200" indent="-4572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35E8-54E2-4D0D-B1C8-AF9A6CEA0D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” created for your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es” created for you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your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spcBef>
                <a:spcPts val="60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 your emai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spcBef>
                <a:spcPts val="60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a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spcBef>
                <a:spcPts val="60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may vary (email to administrator vs. online direct lo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D660-1E66-40F3-9BA3-37966AA175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I Do Nex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the site at: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http://digitalcommons.utep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“My Account” and follow instructions to sign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he Library to arrange submission of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DE98-2439-4F08-9ACC-52B0AB6C90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joy!  We’re Here To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Library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Quest Technic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spcBef>
                <a:spcPts val="60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tsupport@il.proques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spcBef>
                <a:spcPts val="60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0.889.33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spcBef>
                <a:spcPts val="60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ha Salyer, Digital Commons Team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ff Riedel – Program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spcBef>
                <a:spcPts val="60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jeff.riedel@il.proques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spcBef>
                <a:spcPts val="60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0.521.0600 x37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3B2C-870F-498A-A70F-EFC5C42B76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elcome to Digital Comm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84582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700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ce now joins a community at the forefront of scholarly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less than 400 institutions with digital knowledge repositories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erage Size of an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stablish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t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≈ 250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ize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t laun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igit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ons@Pace =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iew the repository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http://digitalcommons.pace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1C51-94DC-4D0C-9C11-FAC8ACE39F3D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Digital Comm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84582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Organized Online Library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gital Commons might cont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prints (pre-refereed papers) or Post-prints (post-refereed pap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graduate senior or honor 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static resources (e.g., sound and video 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erence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k chap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Much More –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n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gital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86AF-EC58-4823-8782-C9D0CA01B624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te Home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14200" y="1600200"/>
          <a:ext cx="8786880" cy="52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600200"/>
                    <a:ext cx="878688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D72D-181D-4554-B4BA-7CA3D2A42F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y Particip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66800"/>
            <a:ext cx="77724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hanced Professional Vi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5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n Access Publi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5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pers are Cited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Discov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5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pers are indexed in 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5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pers are indexed in OAISTER and other Librar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5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overy / Access Fosters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es rapid dissemination of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ulty-Authored Classroom Objects Can be Published and Ac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 - a community of faculty actively engaged with a worldwide audience of fellow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86A2-FAB5-405F-BD0E-F4BBAAF0B074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3960" y="423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oogle Searc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1212840"/>
          <a:ext cx="9144000" cy="56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2840"/>
                    <a:ext cx="914400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C443-B73C-4741-8A07-19C31B1637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Conc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8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Published/ten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spcBef>
                <a:spcPts val="499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urnal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 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ider IR preprints “prior submissions”  - Elsevier as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spcBef>
                <a:spcPts val="499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journals (84%+) will allow preprints to stay up after pub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may “steal” an idea from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spcBef>
                <a:spcPts val="499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ing in IR establishes precedence of the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spcBef>
                <a:spcPts val="499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-minded others may become supporters or collabo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busy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spcBef>
                <a:spcPts val="499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ing is easy, and takes less than 2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spcBef>
                <a:spcPts val="499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your workflow to utilize administrative staff a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F2EF-F958-486E-9E35-FF9ABEEC69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gital Commons Commun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ation e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s receive an email when the paper is posted that provides the URL for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ly email to Auth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usage, link to paper (for distribution), and link/email to series to submit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n email interested audience of paper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to notification, system will notify authors/administrators of forthcoming announcement, and encourage additional sub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0D25-5CFC-4E54-84E4-B617813493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gital Commons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rkeley Electronic Press technology has been implemented at a number of sites inclu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ifornia Digital Library (</a:t>
            </a:r>
            <a:r>
              <a:rPr b="0" lang="en-US" sz="1300" spc="-1" strike="noStrike" u="sng">
                <a:solidFill>
                  <a:srgbClr val="3333cc"/>
                </a:solidFill>
                <a:uFillTx/>
                <a:latin typeface="Arial"/>
              </a:rPr>
              <a:t>http://repositories.cdlib.org/escholarship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rida State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England Law Library Repository, including University of Connecticut, Cornell and Yale (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http://lsr.nellco.or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y of Pennsylv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ston Col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ckinson Col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leton Col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nity University (Tex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bury Col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vens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e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nell – School of Industrial &amp; Labor Re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y of Texas at El Pa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omas Jefferson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1440" y="6246720"/>
            <a:ext cx="819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http://www.umi.com/umi/digitalcomm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links to Digital Commons s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EE64-602A-4454-B8E9-F24F46E638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0T17:03:33Z</dcterms:created>
  <dc:creator>jcriedel</dc:creator>
  <dc:description/>
  <dc:language>en-US</dc:language>
  <cp:lastModifiedBy>Riedel, Jeffrey C.</cp:lastModifiedBy>
  <cp:lastPrinted>2002-04-08T17:54:13Z</cp:lastPrinted>
  <dcterms:modified xsi:type="dcterms:W3CDTF">2005-01-21T05:44:00Z</dcterms:modified>
  <cp:revision>373</cp:revision>
  <dc:subject/>
  <dc:title>ABI/INFORM Academic Research Library</dc:title>
</cp:coreProperties>
</file>