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122-7ADC-4C18-BA56-4FA2077E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A32-E6B7-49E4-8503-0471044B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EC8-1281-4641-B839-D841A9BD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8C3-FFCB-4BBE-8777-9A483F0F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176-D2FE-439F-BC2C-39D2FEE5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989E-5979-476B-9913-96FD403D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5263-7DA8-46CF-ACD7-9B12F1A9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300-2224-4316-8DB2-59B74EFB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FB35-4999-4843-AC1A-1C5DCE03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A4C6-1406-4965-A978-40070216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1D2D-A8D3-41E0-A5A4-EDED78C9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8AA-79E0-425E-B929-3A7D0C9E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3AD1-557A-4854-B53C-48CC3E3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9B95-D143-4E46-B09D-E7AF5259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46C8-0577-4853-BCCF-D2855A1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74D1-F1C5-454D-B8D9-CA9D2295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1214-C6AD-498C-BBE5-5B433D54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51F-754A-4002-8217-5D2CE160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86F-CE08-4DF6-8B8A-184ED553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057-8032-44B0-8E85-EFBBFBB5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441-0B47-4003-BCE8-E07A5FB5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DA4-953B-4E78-93F0-79C0F74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140-0257-4810-BD42-A54C7CCC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407-D8DD-412D-A0DD-3FF1ADD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5897-F12C-43FB-83CD-709F79F0E1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7CF8-14E1-4781-9495-85F7D3EC4F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heory to Practice in the Academic Writing Classroo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ie M. Willi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Linguistics Winter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3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e in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covered in oth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number of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e in Vocabul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also covered in oth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 – A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ent Though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is very interesting….it is for us to practice a real-life college cour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riting is getting bet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teached us how to write step by ste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rivial fact such as Kentucky is a state not a city can be useful to international stu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organization of writing is most important. This also helped me to think about reading logically.  It helped me to analyz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lans for the Fu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with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ckground of Cla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arted in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want to atten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want to attend Pa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matricula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d into 090B with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iting Resear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as most difficult in som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s vary – analyze, describe, discuss, contrast, explain, evaluate, compare, 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assignments - connection of theory and data, report on a specified participatory experience, synthesis of multiple sources (reorganizing it in an appropriate way) (Horowitz, 1986), expository/critical writing (Bridgeman and Carlson, 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research paper and summaries (Bridgeman and Carlson, 1983; Conzett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iting Resear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ing for a particular position (Bridgeman and Carlson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reading (Leki and Carson, 19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d wri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exam questions – ill-defined assignments/questions and did not fit into traditional rhetoric forms – but very comm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iting Resear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elect what to quote/use f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 content over grammar to some extent except where impedes comprehension (Santos, 1988: Conzett, 20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nd culture are proble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errors most egregious (Santos, 19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drafts – more damage than good? (Horowitz, 19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reative writing (Conzett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ading Resear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ne skill needed (Johns, 19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report 80% of their academic language use was in reading and listening (Christison and Kranke, 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comprehension improved with relevant background knowledge, predicting content, guessing words, recognizing text structures (Johns, 1981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son, 1994; Richgels, McGee, Lomax and Sheard, 1987; and Fitzgerald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EAP readers not authentic (Morton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materials they don’t have time to finish (Adamson,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 Resear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useful to reading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tos – word choice wors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 – word lists are good for “students with small vocabulary, a short time to learn it and academic study within a few mont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titive use – productive and rece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L plus 2000 GWL base gives learners 95%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e in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e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with three drafts, 1 with one or two drafts, last essays no d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essays topic is giv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primarily on content/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lagiaris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Strategy (Adamson, 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20:40:54Z</dcterms:created>
  <dc:creator>Pace University</dc:creator>
  <dc:description/>
  <dc:language>en-US</dc:language>
  <cp:lastModifiedBy>PU</cp:lastModifiedBy>
  <dcterms:modified xsi:type="dcterms:W3CDTF">2007-02-05T21:08:57Z</dcterms:modified>
  <cp:revision>46</cp:revision>
  <dc:subject/>
  <dc:title>Slide 1</dc:title>
</cp:coreProperties>
</file>