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A61A-6CB3-4BAC-A2D7-4DE91CF80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 a main drawback is that students are denied creative opport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I can improve reading and writing skills.  Kasper (1997) discovered students in her CBI course outperformed students in other courses. And outperformed in other skills courses AND were more likely to grad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va (1997) does not want themes or topics to dominate or control the curriculum.  He suggests “students be given control of the why, and the what of writing and that teachers focus on the how, where and when on facilitating rather than controlling students’ writing” (p. 362).   Jones in response says that teacher control of theme/topic is beneficial – can cut down on plagiarism and prepares students for academ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D0A77-8C02-4270-B9BE-8DC68BE28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BE06A-2DA8-4E21-A297-92F41361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F0F7C-24BB-411D-BC47-1A40AD098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17C33-84C1-4960-9D98-B8053816C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26784-8639-49F4-8FA7-53F77C620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8F007-1BF3-442A-8CBA-AE7D8EDD3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4753C-2DF2-45BB-8188-B5AB01468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07476-5DC4-4953-931A-A565EF474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E85FF-3EC9-490C-A6A9-A8EB824FB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C378B-641C-471D-AEDA-7BE53E872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D59E1-7464-41FA-9372-D7B311C10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9445C-C734-48EE-9C58-5EFFCECA6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AD426-B04C-499F-A301-16A7D8E14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7D70D-F7EB-40F1-A9BB-DFE9F5DB2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7F12C-90AF-4296-9D9D-F082058DC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91AA5-DC3D-46BF-9F03-ABB79E085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9113F-1F24-41BF-B874-9B9203AF9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84662-23E7-4CF3-9812-FBFEB546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3EBC7-0C83-406E-AC69-8E1D30209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F1A19-D544-4A8B-9190-95D177F1F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7A305-B6E4-4456-ADDF-BA57BBA2B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2BD83-A861-4DA5-90CB-1EE6FD49A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0A47-1B70-40DD-90EB-551FC4FB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04AE6-F244-4D4F-A529-FCBEF848F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EA92-6B1A-48ED-A1C5-C4B035CB35D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3E5A-29B0-4BF5-AAFE-CBA0DE5E514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Using Taboo Topics in an Academic Writing Course</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18</a:t>
            </a:r>
            <a:r>
              <a:rPr b="0" lang="en-US" sz="2500" spc="-1" strike="noStrike" baseline="30000">
                <a:solidFill>
                  <a:srgbClr val="000000"/>
                </a:solidFill>
                <a:latin typeface="Verdana"/>
              </a:rPr>
              <a:t>th</a:t>
            </a:r>
            <a:r>
              <a:rPr b="0" lang="en-US" sz="2500" spc="-1" strike="noStrike">
                <a:solidFill>
                  <a:srgbClr val="000000"/>
                </a:solidFill>
                <a:latin typeface="Verdana"/>
              </a:rPr>
              <a:t> Annual Language in Education Conference</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rcie Williams – Pace University</a:t>
            </a:r>
            <a:endParaRPr b="0" lang="en-US" sz="25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signments</a:t>
            </a:r>
            <a:endParaRPr b="0" lang="en-US" sz="3600" spc="-1" strike="noStrike">
              <a:solidFill>
                <a:srgbClr val="006666"/>
              </a:solidFill>
              <a:latin typeface="Arial"/>
            </a:endParaRPr>
          </a:p>
        </p:txBody>
      </p:sp>
      <p:sp>
        <p:nvSpPr>
          <p:cNvPr id="11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ssay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Journal</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ocabular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ummary and respond to reading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amma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ook summary and respons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er edi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tra Skills</a:t>
            </a: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bate Skill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ak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notat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search</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nthesiz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ading Skill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ocabula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roblems</a:t>
            </a:r>
            <a:endParaRPr b="0" lang="en-US" sz="3600" spc="-1" strike="noStrike">
              <a:solidFill>
                <a:srgbClr val="006666"/>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ated discussions</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o much work?</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rson students overwhelmed by amount of reading in classes</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erris (1994) ESL instructors need to develop students’ lexis</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arcella &amp; Zimmerman (1997) discovered 70% of students said vocabulary was #1 setback</a:t>
            </a:r>
            <a:endParaRPr b="0" lang="en-US" sz="21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usion on essay choice</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er edit groups</a:t>
            </a:r>
            <a:endParaRPr b="0" lang="en-US" sz="21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sults</a:t>
            </a:r>
            <a:endParaRPr b="0" lang="en-US" sz="3600" spc="-1" strike="noStrike">
              <a:solidFill>
                <a:srgbClr val="006666"/>
              </a:solidFill>
              <a:latin typeface="Arial"/>
            </a:endParaRPr>
          </a:p>
        </p:txBody>
      </p:sp>
      <p:sp>
        <p:nvSpPr>
          <p:cNvPr id="12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udent Comments</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the subject was very interesting…it is for us to practice a real-life college course”</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my writing and understanding is getting better”</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what I learned in your class really helps me. I am not just saying it. I mean it!”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cool topics. I like the discussions”</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I learn about American Culture.”</a:t>
            </a:r>
            <a:endParaRPr b="0" lang="en-US" sz="21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Quantitative Results</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lacement Testing</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ackground</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cription of Class</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udents</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als of class/students</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080A</a:t>
            </a:r>
            <a:endParaRPr b="0" lang="en-US" sz="25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st topic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st Assignments</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ournal</a:t>
            </a:r>
            <a:r>
              <a:rPr b="0" lang="en-US" sz="2500" spc="-1" strike="noStrike">
                <a:solidFill>
                  <a:srgbClr val="000000"/>
                </a:solidFill>
                <a:latin typeface="Verdana"/>
              </a:rPr>
              <a:t>	</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rammar</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ssays</a:t>
            </a: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ason for Change</a:t>
            </a: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oring </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pics covered in adult classe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udent comments</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 the textbook</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oring</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ry boring</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always interesting</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often interesting</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not interesting</a:t>
            </a:r>
            <a:endParaRPr b="0" lang="en-US" sz="2200" spc="-1" strike="noStrike">
              <a:solidFill>
                <a:srgbClr val="000000"/>
              </a:solidFill>
              <a:latin typeface="Verdan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ason for Change cont.</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search </a:t>
            </a:r>
            <a:endParaRPr b="0" lang="en-US" sz="29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ynthesizing sources (Horowitz, 1986) </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ding to readings (Leki &amp; Carson, 1997)</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upplying relevant material &amp; logically supporting arguments (Leki &amp; Carson, 1994)</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giarism</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search Cont.</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49712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ading</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okhtari &amp; Sheorey (1994) say it is the determining factor in student success.</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ur problems with reading</a:t>
            </a:r>
            <a:endParaRPr b="0" lang="en-US" sz="25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r vocabulary</a:t>
            </a:r>
            <a:endParaRPr b="0" lang="en-US" sz="22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ability to see how sentence structure relates to meaning</a:t>
            </a:r>
            <a:endParaRPr b="0" lang="en-US" sz="22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ability to recognize organizational patterns</a:t>
            </a:r>
            <a:endParaRPr b="0" lang="en-US" sz="2200" spc="-1" strike="noStrike">
              <a:solidFill>
                <a:srgbClr val="000000"/>
              </a:solidFill>
              <a:latin typeface="Verdana"/>
            </a:endParaRPr>
          </a:p>
          <a:p>
            <a:pPr lvl="2" marL="1143000" indent="-228600">
              <a:lnSpc>
                <a:spcPct val="9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ck of background knowledge </a:t>
            </a:r>
            <a:r>
              <a:rPr b="0" lang="en-US" sz="1600" spc="-1" strike="noStrike">
                <a:solidFill>
                  <a:srgbClr val="000000"/>
                </a:solidFill>
                <a:latin typeface="Verdana"/>
              </a:rPr>
              <a:t>(Corson, 1994; Richgels, McGee, Lomax &amp; Sheard, 1987; and Fitzgerald, 1995)</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search cont.</a:t>
            </a: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ocabulary</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lomon &amp; Rhodes (1996) say vocabulary is a key “feature of academic language”.</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53% of their students reported it was their biggest set-back as did 70% of students in a study does by Zimmerman (1997).</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rol of Topic</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enefits  (Jones, 2001)</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earn about conventions of writing academic paper</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f no control, instructor will have a huge variety of essays to read</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scussion</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eer edit difficult with more than one theme</a:t>
            </a:r>
            <a:endParaRPr b="0" lang="en-US" sz="2500" spc="-1" strike="noStrike">
              <a:solidFill>
                <a:srgbClr val="000000"/>
              </a:solidFill>
              <a:latin typeface="Verdana"/>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tent-based instruction effective &amp; long lasting (Kasper 1997 </a:t>
            </a:r>
            <a:r>
              <a:rPr b="0" lang="en-US" sz="1800" spc="-1" strike="noStrike">
                <a:solidFill>
                  <a:srgbClr val="000000"/>
                </a:solidFill>
                <a:latin typeface="Verdana"/>
              </a:rPr>
              <a:t>ctd in Jones</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ew Topics</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chool Violence</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un control</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dia-1</a:t>
            </a:r>
            <a:r>
              <a:rPr b="0" lang="en-US" sz="2100" spc="-1" strike="noStrike" baseline="30000">
                <a:solidFill>
                  <a:srgbClr val="000000"/>
                </a:solidFill>
                <a:latin typeface="Verdana"/>
              </a:rPr>
              <a:t>st</a:t>
            </a:r>
            <a:r>
              <a:rPr b="0" lang="en-US" sz="2100" spc="-1" strike="noStrike">
                <a:solidFill>
                  <a:srgbClr val="000000"/>
                </a:solidFill>
                <a:latin typeface="Verdana"/>
              </a:rPr>
              <a:t> Amendment</a:t>
            </a:r>
            <a:endParaRPr b="0" lang="en-US" sz="21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ay/Lesbian Issues</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rriage</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option</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te Crimes</a:t>
            </a:r>
            <a:endParaRPr b="0" lang="en-US" sz="21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ender Issues</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borti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srael/Palestine Conflict</a:t>
            </a:r>
            <a:endParaRPr b="0" lang="en-US" sz="2500" spc="-1" strike="noStrike">
              <a:solidFill>
                <a:srgbClr val="000000"/>
              </a:solidFill>
              <a:latin typeface="Verdana"/>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rticles Used</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e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gazin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xtbooks – Be careful!</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vi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ewspaper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udents send/People gi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19:18:12Z</dcterms:created>
  <dc:creator>Pace University</dc:creator>
  <dc:description/>
  <dc:language>en-US</dc:language>
  <cp:lastModifiedBy>PU</cp:lastModifiedBy>
  <dcterms:modified xsi:type="dcterms:W3CDTF">2007-02-05T21:07:21Z</dcterms:modified>
  <cp:revision>19</cp:revision>
  <dc:subject/>
  <dc:title>Slide 1</dc:title>
</cp:coreProperties>
</file>