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40DD-B4C3-48D2-8928-CA3684D33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bove – buy them AFTER check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37C-44C9-4DFB-A533-133F0E82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423-E48B-4A01-8E56-33478342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D21-D195-4F57-85CF-3DDB3258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BB2-46F6-40C3-8443-05E213FB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6B72-A669-4E16-A241-4352A2EF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A946-4D15-480A-913B-3B803C47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C32A-C507-45E7-A470-25FC469F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0209-64CE-4655-8E38-A1B8F4A0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235B-3176-483E-9541-DC309F37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A4F3-3446-4804-8EDC-BA09025D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8229-9CBC-46CF-A411-4C8B2B7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F9B-1F98-45A1-A499-901FCE85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C187-1ED1-4D96-911A-14D7833B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2B0B-2D56-4CFF-BC86-BB5F47C9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A10A-8D4E-4335-9906-31D625C5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5D53-2AB1-455F-B2AB-B551E996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876E-24D7-4866-8198-976849CC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54B-F11F-4334-974D-A1371F57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415-EB7E-4FAA-8B0E-116972A4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EEE-611F-4AFD-845C-1A2418A5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0FE-0AF5-46BB-B626-A30D5D02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CE5-E876-4EEB-B102-B367D6C8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9BB-D065-4EF3-B8B0-9FEC88A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C1F-755B-49E0-B7A6-DE5F942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520C-4B38-42F4-AB09-C26AADBA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9638-F2BD-4037-87AF-58325895F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1800"/>
            <a:ext cx="77724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Student &amp; Teacher Opinions on Graded Reader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ATEFL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il 13,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ification Process cont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ervice Wor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n how students learn 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intu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evel – present simple, present continuous and future (going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 level – past simple, past continuous, future (will &amp; shall) and 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level – future continuous, past perfect cont., future perfect, future perfect cont., conditional and conditional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ification cont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iomatic phrases, ambiguity, subclauses, ambiguous pronoun references, inversions, lengthy noun clauses, figurative language, relative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ed forms, colloquialisms, allusions, unusual expressions, distance between pronouns and antecedents, indirect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peech, repetition of proper name, relatives and conjunctions in long sentences, 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ons to Simplif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harm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u 1982 (cited in Tickoo) simplification may impair 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er and Chaudron 1987 (cited in Tickoo) vocabulary simplification changes the natural language redundancies making “unpacking”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Hafiz and Tudor for more on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ot 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rm reading strategies of learners (Bhatia, 19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field (1977) claims that it eliminates all low frequency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lso posits that simplifying syntax my reduce cohesion and readability because it does not reflect natural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also obscure communicativ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rigins of Prog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erest students in L2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m that books exist that are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ld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m to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all languag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to go from an intensive program to an extensive one – i.e. the program Schmidt created in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200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 Cont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input minimal at b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lists of books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the ‘free materials and ideas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hose trying to pick a variety and ones that had a mov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d students would not be inte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 Cont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py of most graded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udents have checked out but many want to buy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/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 get transcript until return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till teach context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did not know what graded readers were (could be a questionnaire 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have checked out boo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article from the news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wanted to buy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seem to thoroughly enjoy (see 060 for more proo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d not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like detective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like the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gg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ggress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eetings with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support from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helf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better check-ou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leave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o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ing Re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shen (1994) reading may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ive and quickest route to acquis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ve amounts of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reading is the “single best predictor” of writing and standardized tes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vocabulary ac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to low frequency words occur more in written than in 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see vocabulary in different contexts (Simensen, 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helps all skill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done on appropriat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 and spelling (see also Hafiz and Tu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ing Research cont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midt (1996) summarizing key reading researchers states that readers chunk phrases or words together but learners tend to decode each word which results in lower compreh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 (1997) beginners, especially, break sentences down word by word and then become meaning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(2001) slow readers can not retain information – brain is overwor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up and rereading leads to belief that reading in L2 is not f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tensiv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wson 1992 (cited in Schmidt) learners read in L2 as they would in their own language AND little if no translation should b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ree Read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leasure 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chool during designated tim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own books from class or schoo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uy (1997) states numerous studies show students involved in a free reading program have better attitudes toward 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ing always a problem and free reading can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rashen 1994, Constantino 1995) who argue that pleasure reading involves no accountability by the students; accountability being such exercises as reports, journals or lo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 why Graded Reader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midt (1996) hard for low level learners to get comprehensible input (cites Krashen &amp; Richard-Ama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ble v. comprehended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rehend if interes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get students to read unsimplified material and readers can serve as a bridge (Schm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hatia (19??) wealth of research suggests that students should only be exposed to authentic unsimplified material when they have been prepared to handl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Graded Readers cont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pick book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 l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ey are motivated to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actice “chunking” students need texts easy enough to it (Bamford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volved in a reading program with graded readers were tested and showed gains in reading and writing ability  (fluency)– especially the accuracy of expression BUT had a preference for simpler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readers improve reading speed (Bell 2001) also better 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antino (1995) claims that many students do not enjoy reading in their second language because they feel that it is a "task-laden, rule-oriented skill that requires close attention to detail and meaning" (p.15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ification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make it accessible to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si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&amp; situational features, organization of information, explication of background concepts and 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including vocabulary, structure, sentence length, complexity and sentence combination (Simensen, 1987, p. 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ification Process cont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out unimport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ve passages might be cut (unnecess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explanator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cast of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Density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 of making it too compressed or too conden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given a much detail on this 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03:00:55Z</dcterms:created>
  <dc:creator>Tamra Plotnick</dc:creator>
  <dc:description/>
  <dc:language>en-US</dc:language>
  <cp:lastModifiedBy>PU</cp:lastModifiedBy>
  <dcterms:modified xsi:type="dcterms:W3CDTF">2007-02-15T19:27:27Z</dcterms:modified>
  <cp:revision>35</cp:revision>
  <dc:subject/>
  <dc:title>Student &amp; Teacher Opinions on Graded Readers</dc:title>
</cp:coreProperties>
</file>